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91A-EBBD-40AE-AF6C-E76A099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729-FE9B-47ED-8B4D-0E85011E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D13-B01F-4A13-81F2-4138FA1B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A1D-ADA2-45B4-829B-2FEC9D9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3E6-C41D-4520-980E-9EA577B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D2B-4B78-461D-B30A-6E88E89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9D5-46E2-4A16-8376-8EE4935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D12-CD8D-4D10-9BF8-6B59165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A87-F275-463D-923B-20BCC5A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7DF-522A-492E-AEF4-DB5233C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F4F-F014-4E2B-B45D-CB9080D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A8B-870E-4184-A952-4368401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001-DBDF-48EE-8CCC-01E0246CE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4-09T17:14:54Z</dcterms:modified>
  <cp:revision>6</cp:revision>
  <dc:subject/>
  <dc:title>Polly the Parrot</dc:title>
</cp:coreProperties>
</file>